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76E1-2261-4C58-99E2-06C845218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E52-7BE9-4E2F-9988-059AC580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8B1-DA86-4073-9C50-FD63CFE7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C72-1723-4F69-A255-C98FB00D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EED-C6CF-4AE6-83B6-12E73A8B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5AE-7FC9-4787-BBB5-A5EE9066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674-C774-41C8-9884-931283AE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F73-DFE7-41F0-8951-FF3E303C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ED7-F96F-4FCB-8037-D0F31802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D60-3404-4B73-AA26-54ABEF59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D44-5105-4A8B-8C58-AF590CCB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8F8-1706-4E0A-A0C6-3B482646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5E9-09E4-4900-85D8-FF6E756A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C968-EA1A-47C8-A475-7D0F46DE89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fd293"/>
                </a:solidFill>
                <a:latin typeface="Arial"/>
              </a:rPr>
              <a:t>ПРОЕКТ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2637000"/>
            <a:ext cx="856908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С  чего начинается Родина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569440" cy="30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Arial"/>
              </a:rPr>
              <a:t>У каждого на земле есть имя. Такое же имя есть </a:t>
            </a:r>
            <a:br>
              <a:rPr sz="4000"/>
            </a:br>
            <a:r>
              <a:rPr b="1" lang="ru-RU" sz="4000" spc="-1" strike="noStrike">
                <a:solidFill>
                  <a:srgbClr val="dfd293"/>
                </a:solidFill>
                <a:latin typeface="Arial"/>
              </a:rPr>
              <a:t>и у главного города Кубани</a:t>
            </a:r>
            <a:br>
              <a:rPr sz="4000"/>
            </a:br>
            <a:r>
              <a:rPr b="1" lang="ru-RU" sz="4000" spc="-1" strike="noStrike">
                <a:solidFill>
                  <a:srgbClr val="dfd293"/>
                </a:solidFill>
                <a:latin typeface="Arial"/>
              </a:rPr>
              <a:t>И имя это было Екатеринодар, </a:t>
            </a:r>
            <a:br>
              <a:rPr sz="4000"/>
            </a:br>
            <a:r>
              <a:rPr b="1" lang="ru-RU" sz="4000" spc="-1" strike="noStrike">
                <a:solidFill>
                  <a:srgbClr val="dfd293"/>
                </a:solidFill>
                <a:latin typeface="Arial"/>
              </a:rPr>
              <a:t>с 1920 года</a:t>
            </a:r>
            <a:br>
              <a:rPr sz="4000"/>
            </a:br>
            <a:r>
              <a:rPr b="1" lang="ru-RU" sz="4000" spc="-1" strike="noStrike">
                <a:solidFill>
                  <a:srgbClr val="dfd293"/>
                </a:solidFill>
                <a:latin typeface="Arial"/>
              </a:rPr>
              <a:t>город переименовали в Краснодар.</a:t>
            </a: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262480"/>
            <a:ext cx="640080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Arial"/>
              </a:rPr>
              <a:t>Мини- проект</a:t>
            </a:r>
            <a:br>
              <a:rPr sz="4800"/>
            </a:b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076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я восстановления связи времен и поколений приведи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вои аргументы в пользу переименования города Краснодара в Екатерино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024360" cy="30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2881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ФИЗКУЛЬТМИНУТ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02920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Благодарю за сотрудничество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СЧАСТЛИВОГ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ПУТИ 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0:16:00Z</dcterms:created>
  <dc:creator>МОУсош№18</dc:creator>
  <dc:description/>
  <dc:language>en-US</dc:language>
  <cp:lastModifiedBy>МОСОШ№18</cp:lastModifiedBy>
  <dcterms:modified xsi:type="dcterms:W3CDTF">2009-01-19T16:24:19Z</dcterms:modified>
  <cp:revision>6</cp:revision>
  <dc:subject/>
  <dc:title>С чего начинается Родина?</dc:title>
</cp:coreProperties>
</file>