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5C8-82CC-46B1-9A06-69BA32A5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438-004D-44D0-8752-0ECEE5B2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1E7-FC35-4976-9908-3CE7CF84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7A90-63F1-4A39-8078-5BEA6D9B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33E-151A-4BCC-9343-6FE3078B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48B-5731-48B1-8455-92A0373E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58A-84BA-4481-BA12-CF7C4695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677-D1D0-4620-B38C-BD69BFCC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79C-741B-4778-9DBE-EE94B512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21E-3561-44B8-B3D6-B477E4BD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6B8-CE97-462E-BA1E-5E278FB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823-406F-4A3B-81BC-D041E0EB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28A2-1052-4E59-A208-12D82CFDD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380880" y="304920"/>
            <a:ext cx="8077320" cy="34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Хлеб - всему голов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PICT06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851749691"/>
          <p:cNvPicPr/>
          <p:nvPr/>
        </p:nvPicPr>
        <p:blipFill>
          <a:blip r:embed="rId1"/>
          <a:stretch/>
        </p:blipFill>
        <p:spPr>
          <a:xfrm>
            <a:off x="0" y="0"/>
            <a:ext cx="57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IMG_88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=4=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Фермерское хозяйство Ягло Вячеслава Михайлови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меет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22 га земли, из них 50 га засеяно было зарновыми. В прошлом году на возделывание 1 га земли было потрачено 5 319 руб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иды работ                 Использовано               Стоимость                    Всего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лит. солярки                      1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.Пахота                       20л                                18р50к                            37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2.Культивация              20л                                18р.50к                           370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3. Сев                            10л                                 18р.50к.                         185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4. Семена                      220кг                             10р                        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Georgia"/>
              </a:rPr>
              <a:t>2200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3125 р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ЕСЕННИЕ ПОЛЕВЫЕ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.Внесение удобрений                         7л                                18р50к.                           129руб  50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2. Химическая прополка                    7л.                              18р50к.                            129руб  50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3. Удобрения                                          200кг                         7р70к.                            1540руб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4. Гербициды                               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25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824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УБОР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. Убрать с1га                                             20л                              18р.50к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37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5 319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2. Транспорт                                                                                                                       18 000 р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3.Заработная плата                                                                                                         20 000 р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Если 5 319 руб х 50 руб. = 265 950 руб., прибавим расходы на транспорт и заработную плату, получится 303 950 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DSC04809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хлебные изделия (1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хлебные изделия (1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DSCN24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1188809188_grants_of_the_nature_4"/>
          <p:cNvPicPr/>
          <p:nvPr/>
        </p:nvPicPr>
        <p:blipFill>
          <a:blip r:embed="rId1"/>
          <a:stretch/>
        </p:blipFill>
        <p:spPr>
          <a:xfrm>
            <a:off x="-609480" y="0"/>
            <a:ext cx="105156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6a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-15840" y="1080"/>
            <a:ext cx="8198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ОБЪЯТНА  РОДНАЯ СТРАНА.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НОГО ЕСТЬ У НЕЕ  СЫНОВ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О У КАЖДОГО МАТЬ ЛИШЬ ОД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ЕЕ НЕТ НА СВЕТЕ РО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ЭТО СЛОВО СВЯЩЕННОЕ – МАТЬ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ТЬ. Я С ДЕСТВА ЗАПОМНИЛ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 УСТАНУ Я ИХ ПОВТОРЯ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ХЛЕБ И МАТЬ ЕСТЬ ВСЕМУ ГОЛОВ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БИЖАТЬСЯ НА МАТЬ - ЭТО ГРЕ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 КОТОРОГО СТРАШНО СГОР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БИЖАТЬСЯ НА МАТЬ – ЧТО НА ХЛЕ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Н И ЧЕРСТВЫЙ НЕ ДАСТ УМЕРЕТЬ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ЕОРГИЙ  ФИЛИПОВСК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720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258127702"/>
          <p:cNvPicPr/>
          <p:nvPr/>
        </p:nvPicPr>
        <p:blipFill>
          <a:blip r:embed="rId1"/>
          <a:stretch/>
        </p:blipFill>
        <p:spPr>
          <a:xfrm>
            <a:off x="0" y="0"/>
            <a:ext cx="649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1666790113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103578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3352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217643290"/>
          <p:cNvPicPr/>
          <p:nvPr/>
        </p:nvPicPr>
        <p:blipFill>
          <a:blip r:embed="rId2"/>
          <a:stretch/>
        </p:blipFill>
        <p:spPr>
          <a:xfrm>
            <a:off x="0" y="0"/>
            <a:ext cx="5181480" cy="3382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reviews_logo_16"/>
          <p:cNvPicPr/>
          <p:nvPr/>
        </p:nvPicPr>
        <p:blipFill>
          <a:blip r:embed="rId3"/>
          <a:stretch/>
        </p:blipFill>
        <p:spPr>
          <a:xfrm>
            <a:off x="4495680" y="3354480"/>
            <a:ext cx="4648320" cy="3503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yachmen"/>
          <p:cNvPicPr/>
          <p:nvPr/>
        </p:nvPicPr>
        <p:blipFill>
          <a:blip r:embed="rId4"/>
          <a:stretch/>
        </p:blipFill>
        <p:spPr>
          <a:xfrm>
            <a:off x="0" y="3381480"/>
            <a:ext cx="44956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ICT06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PICT06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maciq</cp:lastModifiedBy>
  <dcterms:modified xsi:type="dcterms:W3CDTF">2009-11-24T13:38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