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5C7-F6BD-4BB7-9195-87E3D9D3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237-C150-4514-8928-0BBB3BC0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E42-9BF8-4988-99A5-912CB7DD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115-02FC-4F42-BEA7-82BA1271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B98-0534-4126-A8B2-0D7AFC33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E15-5D19-4734-AD1C-6665B571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B7E-D8AA-478C-B5D6-4D0551D1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984-10ED-4D6A-ACBC-0BED48CE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D26-B89A-404B-AD91-7E85399B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E06-B796-47B8-8800-F9CE9134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3F5-2E6B-4302-9403-8D1AB7CF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6DB-8782-4B9F-9D1E-986EF244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2CEE-E96F-4BB2-9E20-8C605442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o.mail.ru/frame.html?&amp;imgurl=http%3A%2F%2Fwww.t-l.ru%2Fphoto%2F124288707811507.jpg&amp;pageurl=http%3A%2F%2Fwww.healthspa.ru%2Fshowinfo.php%3Fid%3D478&amp;id=5403893&amp;iid=5&amp;imgwidth=700&amp;imgheight=423&amp;imgsize=77397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go.mail.ru/frame.html?&amp;imgurl=http%3A%2F%2Fwww.out1b.kurortmag.ru%2FprocessPhoto.asp%3Fc_id%3D10071906%26ct_id%3D15%26attrNumb%3D1&amp;pageurl=http%3A%2F%2Fwww.nord-way.ru%2Fhotelinfo201-2236.html&amp;id=93989995&amp;iid=5&amp;imgwidth=428&amp;imgheight=288&amp;imgsize=39165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go.mail.ru/frame.html?&amp;imgurl=http%3A%2F%2Fwww.out1b.kurortmag.ru%2FprocessPhoto.asp%3Fc_id%3D10071902%26ct_id%3D15%26attrNumb%3D1&amp;pageurl=http%3A%2F%2Fwww.butterfly-tour.org%2Findex.php%3Foption%3Dcom_content%26task%3Dview%26id%3D60%26Itemid%3D106&amp;id=5403893&amp;iid=8&amp;imgwidth=700&amp;imgheight=461&amp;imgsize=131249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go.mail.ru/frame.html?&amp;imgurl=http%3A%2F%2Fwww.yuga.ru%2Fmedia%2FSochi_beach_01_s.jpg&amp;pageurl=http%3A%2F%2Fwww.novoteka.ru%2Fr%2FDosug.Travel%3Flastdate%3D%2F2009-08-12&amp;id=35097483&amp;iid=0&amp;imgwidth=450&amp;imgheight=338&amp;imgsize=60962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o.mail.ru/frame.html?&amp;imgurl=http%3A%2F%2Fsochi-24.ru%2Fimages%2Fm1386_90.jpg&amp;pageurl=http%3A%2F%2Fsochi-24.ru%2Fturizm%2F&amp;id=82208839&amp;iid=3&amp;imgwidth=450&amp;imgheight=272&amp;imgsize=63442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delo.yuga.ru%2Fmedia%2F87bf85adf31b8f8ede4d2d2cf981f3e8_s.jpg&amp;pageurl=http%3A%2F%2Ftravel.sakh.com%2F%3Fdiv%3Dtours%26place%3Drussia_5%26id%3D1575%26list%3D2&amp;id=115756470&amp;iid=3&amp;imgwidth=800&amp;imgheight=600&amp;imgsize=168056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go.mail.ru/frame.html?&amp;imgurl=http%3A%2F%2Fkotik.name%2Fwp-content%2Fuploads%2F2009%2F06%2Fanapa.jpg&amp;pageurl=http%3A%2F%2Fdic.academic.ru%2Fdic.nsf%2Fruwiki%2F991620&amp;id=56635491&amp;iid=4&amp;imgwidth=500&amp;imgheight=350&amp;imgsize=107977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go.mail.ru/frame.html?&amp;imgurl=http%3A%2F%2Fall-hotels.ru%2Fphotos%2F144430.jpg&amp;pageurl=http%3A%2F%2Fall-hotels.ru%2Fh109316%2Fhtlphotos.en.html&amp;id=146440630&amp;iid=4&amp;imgwidth=500&amp;imgheight=375&amp;imgsize=64717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go.mail.ru/frame.html?&amp;imgurl=http%3A%2F%2Fwww.roots2000.ru%2Fphoto%2Fprometey_o_7064905974.jpg&amp;pageurl=http%3A%2F%2Fwww.aurore.ru%2Fhotel.php%3Fid%3D4025%26photo&amp;id=159259634&amp;iid=8&amp;imgwidth=800&amp;imgheight=537&amp;imgsize=318742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go.mail.ru/frame.html?&amp;imgurl=http%3A%2F%2Fwww.zelen.ru%2Ffotos%2Ftuapse11.JPG&amp;pageurl=http%3A%2F%2Frusib.ru%2Fhotel%2Fworld.asp%3Fidmap%3D3266&amp;id=3647617&amp;iid=0&amp;imgwidth=398&amp;imgheight=265&amp;imgsize=26216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voyaje.opt.ru%2Ffotos%2Fpicture1981935686634.jpg&amp;pageurl=http%3A%2F%2Fwww.cctr.ru%2Fplaces%2Fkav%2Favtotrpus1.php&amp;id=37675327&amp;iid=8&amp;imgwidth=428&amp;imgheight=500&amp;imgsize=35253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travelnn.ru/_data/objects/0004/5695/icon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go.mail.ru/frame.html?&amp;imgurl=http%3A%2F%2Fwww.uralpolit.ru%2Fimages%2Fthumbs%2Fid83477_w190.jpg&amp;pageurl=http%3A%2F%2Fwww.diligans-yug.ru%2Fpages%2Fextour.asp%3Fid%3D2%26id1%3D4%26id2%3D16%26id3%3D10&amp;id=52396948&amp;iid=2&amp;imgwidth=580&amp;imgheight=386&amp;imgsize=151035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go.mail.ru/frame.html?&amp;imgurl=http%3A%2F%2Fwww.dztpp.r52.ru%2Fupload%2Fimages%2Fpreview.1149059646.jpg&amp;pageurl=http%3A%2F%2Fwww.dztpp.r52.ru%2Fru%2Frightmenu%2Fvirtual_exp%2F176%2F255&amp;id=84085254&amp;iid=7&amp;imgwidth=580&amp;imgheight=434&amp;imgsize=63440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www.gelendjik.info/photo/d/2672-2/gelendjik-1099.jpg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yeisk2.narod.ru%2Fimages%2F17.jpg&amp;pageurl=http%3A%2F%2Fwww.cool-sochi.ru%2Feisk%2Findex.htm&amp;id=29733982&amp;iid=7&amp;imgwidth=392&amp;imgheight=294&amp;imgsize=12698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.mail.ru/frame.html?&amp;imgurl=http%3A%2F%2Fmegadoski.ru%2Fs_images%2F12465640427555.jpg&amp;pageurl=http%3A%2F%2Fwww.greenw.ru%2Fvistavka-v-anape-2631.php&amp;id=38265808&amp;iid=6&amp;imgwidth=600&amp;imgheight=450&amp;imgsize=43121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Monotype Corsiva"/>
              </a:rPr>
              <a:t>Здравницы Кубан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797360" cy="3598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457200"/>
            <a:ext cx="3276360" cy="1965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3657600"/>
            <a:ext cx="3314880" cy="222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3048120"/>
            <a:ext cx="3505320" cy="2303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6240" y="571500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ячий клю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4492800" cy="337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30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3049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2971800"/>
            <a:ext cx="35812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1676520"/>
            <a:ext cx="4495680" cy="314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1480" y="3809880"/>
            <a:ext cx="3124440" cy="234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10080" y="68580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76920" cy="3659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72200" y="30492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уап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2895480"/>
            <a:ext cx="3124080" cy="2076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495680"/>
            <a:ext cx="2971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2784600" cy="327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003400"/>
            <a:ext cx="2895480" cy="231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4114800"/>
            <a:ext cx="3048120" cy="2023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256000" y="457200"/>
            <a:ext cx="30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воросси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62720" y="304920"/>
            <a:ext cx="29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ленд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2819520"/>
            <a:ext cx="2743200" cy="2038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343400"/>
            <a:ext cx="259056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094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20574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648320" y="3429000"/>
            <a:ext cx="2895480" cy="2151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3505320"/>
            <a:ext cx="2095560" cy="1496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43400" y="50004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й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мельянова</cp:lastModifiedBy>
  <dcterms:modified xsi:type="dcterms:W3CDTF">2009-11-14T11:48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