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25E-7777-4464-9263-51A5E419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11C-C5DF-40D2-B93F-FE52A03D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0B1-BE8F-4988-B2A6-175F8C66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3836-9382-4E7B-9075-8C4A72DB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5FCB-7CDE-48CA-B285-A1E55ECF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6C2F-C39A-4F63-8395-5EE51955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267E-492C-4A33-830D-49143828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4A4C-4671-4EE5-AEB5-5D0CDAC1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F0FB-A1A8-45DE-884C-F270BD0C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9BCE-64AE-4EB4-9EBD-90AA1424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1BEE-4FD1-41A6-81F3-05B28939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5E5-1E5D-4974-8ACD-1F161558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AF9F-D9DD-4343-8DDD-3B4F2D15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D369-2815-4DA0-80B2-AC3919B1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AF99-565D-4F1E-9F47-5D1E67FE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CB84-5928-4449-A298-37EE04DF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76EC-7DCE-4534-BB7E-BFC07C5D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D76B-C872-46EE-BD97-424F3622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8C9-4957-4BAA-A5B2-BD695DC5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22C-2F15-4B45-AB55-7101A23B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8D8-F744-467E-A020-9DF739EF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481-3E43-4971-8048-F5D3D231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7A5-A92D-4D64-89FB-E304C074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B86-6B0D-40AE-A3EA-110A20CE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9C5E-34EC-4F28-AE45-B7D828FE422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5289-E5BC-43E1-A666-D4A5F05655A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Качественное – значит с Кубани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g1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540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3352680" cy="2513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3524400" cy="2641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488880"/>
            <a:ext cx="3638520" cy="3259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733920" y="335268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43000" y="369576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124080" cy="2170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800600" y="3733920"/>
            <a:ext cx="3200400" cy="2387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7200" y="380880"/>
            <a:ext cx="32767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мельянова</cp:lastModifiedBy>
  <dcterms:modified xsi:type="dcterms:W3CDTF">2009-11-14T12:09:5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