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5CB-A570-4E2C-B681-962EE230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230-1653-4785-AD36-5581803C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98F-533C-47EA-A52F-6E630A60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F95-324A-4AD8-9AF6-740D7F01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43651-AFE4-424A-BBEF-7CEA9890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025F1-367B-41F5-A860-B963F285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0D248-2030-4BEE-B794-11678928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699A0-7DD3-4A17-92C5-8EE27CD1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D8841-ECA7-4468-A427-ADBE899F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322200"/>
            <a:ext cx="907272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D2777-5D4E-4466-8986-928B318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EE08C-2BC8-47D1-AE81-4F8DB05B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A64-1E2A-4A23-B549-AA491D2D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90A2B-0B01-4672-B6F4-FC172B8F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1D4C2-FDC3-4F86-BF12-C264D9ED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9CB05-30C3-4282-BC9A-4379F10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F39A6-C0F3-4325-8E4A-4D820832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CC21B-B3AF-46EE-8CBE-B7673FEB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7BB-79D2-4CF5-8BB2-652809BE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2E8-D123-4103-9D03-47B25977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B49-C112-4A4E-B307-B43E15A3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22200"/>
            <a:ext cx="907272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F8E-D7EE-460F-9A07-47150BDC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62F-8B3B-4314-84F9-D73DF45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3B7-2DBA-4577-8FE8-BC731BF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94A-2759-40FF-8FAD-90B45332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7DE9232-B02C-424D-9A86-1E919A582E35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3090960"/>
            <a:ext cx="3240" cy="33447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B146AC4-796B-4527-BD20-2522D84A8119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376200"/>
            <a:ext cx="90759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40280"/>
                <a:tab algn="l" pos="4484520"/>
                <a:tab algn="l" pos="4938840"/>
                <a:tab algn="l" pos="5388120"/>
                <a:tab algn="l" pos="5834160"/>
                <a:tab algn="l" pos="6281640"/>
                <a:tab algn="l" pos="6735600"/>
                <a:tab algn="l" pos="7184880"/>
                <a:tab algn="l" pos="7629480"/>
                <a:tab algn="l" pos="808344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Св</a:t>
            </a: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ятой апостол </a:t>
            </a:r>
            <a:br>
              <a:rPr sz="4900"/>
            </a:b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 Андрей Первозванный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78080" y="2224080"/>
            <a:ext cx="3555720" cy="4764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Святой апостол Андрей Первозванный  почитался  со времен Киевской Руси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С его именем связано распространение христианства на Рус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419160" y="3359160"/>
            <a:ext cx="113004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пост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360" y="376200"/>
            <a:ext cx="90759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40280"/>
                <a:tab algn="l" pos="4484520"/>
                <a:tab algn="l" pos="4938840"/>
                <a:tab algn="l" pos="5388120"/>
                <a:tab algn="l" pos="5834160"/>
                <a:tab algn="l" pos="6281640"/>
                <a:tab algn="l" pos="6735600"/>
                <a:tab algn="l" pos="7184880"/>
                <a:tab algn="l" pos="7629480"/>
                <a:tab algn="l" pos="808344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Св</a:t>
            </a: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ятой благоверный князь</a:t>
            </a: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 Александр Невский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4360" y="2099880"/>
            <a:ext cx="4429080" cy="4538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404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4040" indent="-374040"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Великий князь Александр Невский приложил много сил к собиранию русских земель,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4040" indent="-374040"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к защите их от внешних и внутренних врагов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79640" y="2160720"/>
            <a:ext cx="4141800" cy="484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360" y="376200"/>
            <a:ext cx="90759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40280"/>
                <a:tab algn="l" pos="4484520"/>
                <a:tab algn="l" pos="4938840"/>
                <a:tab algn="l" pos="5388120"/>
                <a:tab algn="l" pos="5834160"/>
                <a:tab algn="l" pos="6281640"/>
                <a:tab algn="l" pos="6735600"/>
                <a:tab algn="l" pos="7184880"/>
                <a:tab algn="l" pos="7629480"/>
                <a:tab algn="l" pos="808344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Орден Св</a:t>
            </a: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ятого </a:t>
            </a:r>
            <a:br>
              <a:rPr sz="4900"/>
            </a:b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 Александра Невского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54160" y="2265480"/>
            <a:ext cx="2800440" cy="4765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Орден Святого Александра Невского был  учрежден  Петром 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 в      1725 г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90240"/>
            <a:ext cx="90727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920"/>
                <a:tab algn="l" pos="539640"/>
                <a:tab algn="l" pos="987480"/>
                <a:tab algn="l" pos="1436760"/>
                <a:tab algn="l" pos="1886040"/>
                <a:tab algn="l" pos="2332080"/>
                <a:tab algn="l" pos="2784600"/>
                <a:tab algn="l" pos="3233880"/>
                <a:tab algn="l" pos="3681360"/>
                <a:tab algn="l" pos="4132440"/>
                <a:tab algn="l" pos="4581360"/>
                <a:tab algn="l" pos="5030640"/>
                <a:tab algn="l" pos="5475240"/>
                <a:tab algn="l" pos="5929200"/>
                <a:tab algn="l" pos="6378480"/>
                <a:tab algn="l" pos="6826320"/>
                <a:tab algn="l" pos="7272360"/>
                <a:tab algn="l" pos="7726320"/>
                <a:tab algn="l" pos="8175600"/>
                <a:tab algn="l" pos="8620200"/>
                <a:tab algn="l" pos="868680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Орден Александра Невского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9440" y="1767960"/>
            <a:ext cx="44290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Орден Александра Невского  второй раз был учрежден Указом Президиума Верховного Совета СССР от 29 июля 1942 года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360" y="1767960"/>
            <a:ext cx="4426200" cy="499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9640" y="1800360"/>
            <a:ext cx="4445280" cy="48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720" y="390240"/>
            <a:ext cx="90727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920"/>
                <a:tab algn="l" pos="539640"/>
                <a:tab algn="l" pos="987480"/>
                <a:tab algn="l" pos="1436760"/>
                <a:tab algn="l" pos="1886040"/>
                <a:tab algn="l" pos="2332080"/>
                <a:tab algn="l" pos="2784600"/>
                <a:tab algn="l" pos="3233880"/>
                <a:tab algn="l" pos="3681360"/>
                <a:tab algn="l" pos="4132440"/>
                <a:tab algn="l" pos="4581360"/>
                <a:tab algn="l" pos="5030640"/>
                <a:tab algn="l" pos="5475240"/>
                <a:tab algn="l" pos="5929200"/>
                <a:tab algn="l" pos="6378480"/>
                <a:tab algn="l" pos="6826320"/>
                <a:tab algn="l" pos="7272360"/>
                <a:tab algn="l" pos="7726320"/>
                <a:tab algn="l" pos="8175600"/>
                <a:tab algn="l" pos="8620200"/>
                <a:tab algn="l" pos="868680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Орден Святого апостола Андрея Первозванного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9440" y="1767960"/>
            <a:ext cx="44290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4040" indent="-37404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Первой и высшей наградой Российской империи являлся орден Святого Апостола Андрея Первозванного. Петр 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 учредил его 1 марта 1698 г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4360" y="1767960"/>
            <a:ext cx="4426200" cy="4992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4720" y="1908000"/>
            <a:ext cx="4318200" cy="48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430200"/>
            <a:ext cx="90759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ahoma"/>
              </a:rPr>
              <a:t>Орден Святого апостола</a:t>
            </a:r>
            <a:br>
              <a:rPr sz="4500"/>
            </a:br>
            <a:r>
              <a:rPr b="0" lang="ru-RU" sz="4500" spc="-1" strike="noStrike">
                <a:solidFill>
                  <a:srgbClr val="ffffff"/>
                </a:solidFill>
                <a:latin typeface="Tahoma"/>
              </a:rPr>
              <a:t>Андрея Первозванного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5760" y="2340000"/>
            <a:ext cx="4314960" cy="4500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Этот орден и сегодня  – высшая награда России.  Восстановлен Указом Президента России от 1 июля 1998 г 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360" y="376200"/>
            <a:ext cx="90759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40280"/>
                <a:tab algn="l" pos="4484520"/>
                <a:tab algn="l" pos="4938840"/>
                <a:tab algn="l" pos="5388120"/>
                <a:tab algn="l" pos="5834160"/>
                <a:tab algn="l" pos="6281640"/>
                <a:tab algn="l" pos="6735600"/>
                <a:tab algn="l" pos="7184880"/>
                <a:tab algn="l" pos="7629480"/>
                <a:tab algn="l" pos="808344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Св</a:t>
            </a: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ятой</a:t>
            </a: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равноапостольный князь </a:t>
            </a: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Владимир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03360" y="2224080"/>
            <a:ext cx="3305160" cy="4764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При жизни князь Владимир прославился как полководец и государственный деятель. При его правлении в 988 г. христианство стало государственной религией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390240"/>
            <a:ext cx="90727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920"/>
                <a:tab algn="l" pos="539640"/>
                <a:tab algn="l" pos="987480"/>
                <a:tab algn="l" pos="1436760"/>
                <a:tab algn="l" pos="1886040"/>
                <a:tab algn="l" pos="2332080"/>
                <a:tab algn="l" pos="2784600"/>
                <a:tab algn="l" pos="3233880"/>
                <a:tab algn="l" pos="3681360"/>
                <a:tab algn="l" pos="4132440"/>
                <a:tab algn="l" pos="4581360"/>
                <a:tab algn="l" pos="5030640"/>
                <a:tab algn="l" pos="5475240"/>
                <a:tab algn="l" pos="5929200"/>
                <a:tab algn="l" pos="6378480"/>
                <a:tab algn="l" pos="6826320"/>
                <a:tab algn="l" pos="7272360"/>
                <a:tab algn="l" pos="7726320"/>
                <a:tab algn="l" pos="8175600"/>
                <a:tab algn="l" pos="8620200"/>
                <a:tab algn="l" pos="8686800"/>
                <a:tab algn="l" pos="9072720"/>
                <a:tab algn="l" pos="10080720"/>
              </a:tabLst>
            </a:pPr>
            <a:r>
              <a:rPr b="0" lang="en-GB" sz="4500" spc="-1" strike="noStrike">
                <a:solidFill>
                  <a:srgbClr val="ffffff"/>
                </a:solidFill>
                <a:latin typeface="Tahoma"/>
              </a:rPr>
              <a:t>Орден Св</a:t>
            </a:r>
            <a:r>
              <a:rPr b="0" lang="ru-RU" sz="4500" spc="-1" strike="noStrike">
                <a:solidFill>
                  <a:srgbClr val="ffffff"/>
                </a:solidFill>
                <a:latin typeface="Tahoma"/>
              </a:rPr>
              <a:t>ятого равноапостольного князя </a:t>
            </a:r>
            <a:r>
              <a:rPr b="0" lang="en-GB" sz="4500" spc="-1" strike="noStrike">
                <a:solidFill>
                  <a:srgbClr val="ffffff"/>
                </a:solidFill>
                <a:latin typeface="Tahoma"/>
              </a:rPr>
              <a:t>Владимира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0" y="1767960"/>
            <a:ext cx="543852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Орден святого равноапостольного князя Владимира учрежден императрицей Екатериной 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II            </a:t>
            </a: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 22 сентября 1782 года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0360" y="2265480"/>
            <a:ext cx="3565440" cy="499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76200"/>
            <a:ext cx="90759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40280"/>
                <a:tab algn="l" pos="4484520"/>
                <a:tab algn="l" pos="4938840"/>
                <a:tab algn="l" pos="5388120"/>
                <a:tab algn="l" pos="5834160"/>
                <a:tab algn="l" pos="6281640"/>
                <a:tab algn="l" pos="6735600"/>
                <a:tab algn="l" pos="7184880"/>
                <a:tab algn="l" pos="7629480"/>
                <a:tab algn="l" pos="808344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Св</a:t>
            </a: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ятой великомученик </a:t>
            </a: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 Георгий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Святой Георгий был воином. После своей мученической кончины  стал являться людям  и помогать им в бедах, а воинам – побеждать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40000" y="205092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90240"/>
            <a:ext cx="90727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920"/>
                <a:tab algn="l" pos="539640"/>
                <a:tab algn="l" pos="987480"/>
                <a:tab algn="l" pos="1436760"/>
                <a:tab algn="l" pos="1886040"/>
                <a:tab algn="l" pos="2332080"/>
                <a:tab algn="l" pos="2784600"/>
                <a:tab algn="l" pos="3233880"/>
                <a:tab algn="l" pos="3681360"/>
                <a:tab algn="l" pos="4132440"/>
                <a:tab algn="l" pos="4581360"/>
                <a:tab algn="l" pos="5030640"/>
                <a:tab algn="l" pos="5475240"/>
                <a:tab algn="l" pos="5929200"/>
                <a:tab algn="l" pos="6378480"/>
                <a:tab algn="l" pos="6826320"/>
                <a:tab algn="l" pos="7272360"/>
                <a:tab algn="l" pos="7726320"/>
                <a:tab algn="l" pos="8175600"/>
                <a:tab algn="l" pos="8620200"/>
                <a:tab algn="l" pos="868680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Орден Св</a:t>
            </a: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ятого </a:t>
            </a: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 Георгия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9440" y="1767960"/>
            <a:ext cx="4429080" cy="55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26 ноября 1769 года  указом Екатерины </a:t>
            </a: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 был учрежден  орден Святого  Георгия, которым награждали воинов, проявивших в бою неудержимую отвагу, смелость и находчивость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3060720" cy="50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7280" y="395280"/>
            <a:ext cx="878832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40280"/>
                <a:tab algn="l" pos="4484520"/>
                <a:tab algn="l" pos="4938840"/>
                <a:tab algn="l" pos="5388120"/>
                <a:tab algn="l" pos="5834160"/>
                <a:tab algn="l" pos="6281640"/>
                <a:tab algn="l" pos="6735600"/>
                <a:tab algn="l" pos="7184880"/>
                <a:tab algn="l" pos="7629480"/>
                <a:tab algn="l" pos="808344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Орден Славы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68360" y="2124000"/>
            <a:ext cx="2746440" cy="4764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404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4040" indent="-374040">
              <a:spcBef>
                <a:spcPts val="7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В советское время георгиевская  наградная традиция получила своё развитие в учреждении в 1943 году ордена Славы трёх степеней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76200"/>
            <a:ext cx="90759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40280"/>
                <a:tab algn="l" pos="4484520"/>
                <a:tab algn="l" pos="4938840"/>
                <a:tab algn="l" pos="5388120"/>
                <a:tab algn="l" pos="5834160"/>
                <a:tab algn="l" pos="6281640"/>
                <a:tab algn="l" pos="6735600"/>
                <a:tab algn="l" pos="7184880"/>
                <a:tab algn="l" pos="7629480"/>
                <a:tab algn="l" pos="8083440"/>
                <a:tab algn="l" pos="8532720"/>
                <a:tab algn="l" pos="8978760"/>
                <a:tab algn="l" pos="9072720"/>
                <a:tab algn="l" pos="10080720"/>
              </a:tabLst>
            </a:pP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Орден Св</a:t>
            </a: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ятого</a:t>
            </a:r>
            <a:r>
              <a:rPr b="0" lang="en-GB" sz="4900" spc="-1" strike="noStrike">
                <a:solidFill>
                  <a:srgbClr val="ffffff"/>
                </a:solidFill>
                <a:latin typeface="Tahoma"/>
              </a:rPr>
              <a:t> Георгия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1280" y="2265120"/>
            <a:ext cx="4427640" cy="45399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0440" indent="-37044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С 2000 года орден Святого Георгия вновь является  высшей военной наградой Российской Федерации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24000" y="1908000"/>
            <a:ext cx="266544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655640" y="4572000"/>
            <a:ext cx="1808280" cy="21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imir</cp:lastModifiedBy>
  <dcterms:modified xsi:type="dcterms:W3CDTF">2008-02-02T18:21:22Z</dcterms:modified>
  <cp:revision>3</cp:revision>
  <dc:subject/>
  <dc:title>Св. Андрей Первозванный</dc:title>
</cp:coreProperties>
</file>