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wmf" ContentType="image/x-wmf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544400" y="1069560"/>
            <a:ext cx="4460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4988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244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244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840" y="458244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7800" y="2099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5160" y="2099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244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7800" y="458244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5160" y="458244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00120"/>
            <a:ext cx="859968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244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840" y="458244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244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59968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7360" indent="-212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2080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1000" indent="-209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1000" indent="-209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1000" indent="-209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0080" y="-955800"/>
            <a:ext cx="86090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Появление первых христиан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на Ру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90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Святая равноапостольная княгиня Оль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0080" y="2112840"/>
            <a:ext cx="4200840" cy="4737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ознаменование 1000-летия Крещения Р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учрежден орден Свя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авноапостольной княгини Оль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9720" y="60012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Крещение Ру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30080" y="2100240"/>
            <a:ext cx="4199040" cy="475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38640" y="2100240"/>
            <a:ext cx="41990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Если мы хотим, чтобы у нас было достойное будущее, необходимо вернуться к тому, чем жил наш народ 1000 лет, усвоить душой высокие и светлые идеалы добра, красоты, любви к людям и отече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Aft>
                <a:spcPts val="1412"/>
              </a:spcAft>
              <a:buNone/>
              <a:tabLst>
                <a:tab algn="l" pos="0"/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атриарх Московский и всея Руси Алексий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7920" y="2160720"/>
            <a:ext cx="413244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Из истории христианства на Ру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Христианское учение проникало до официального принятия правосла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чало распространения христианства связано  с именем апостола Андрея Первозва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9720" y="600120"/>
            <a:ext cx="86029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Андрей Первозванный — небесный покровитель земли российск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9520" y="2100240"/>
            <a:ext cx="3438720" cy="475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73880" y="214776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5040"/>
            <a:ext cx="860904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Андрей Первозванный — небесный покровитель земли российск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30080" y="2100240"/>
          <a:ext cx="860904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86090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419640" y="2160720"/>
            <a:ext cx="329544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5040"/>
            <a:ext cx="860904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Андрей Первозванный — небесный покровитель земли российск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40040" y="2100240"/>
            <a:ext cx="1780920" cy="4762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чреждены в 1699 году Петром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9640" y="3600360"/>
            <a:ext cx="3959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90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Святая равноапостольная княгиня Оль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усь,опоясана ре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 дебрями окруже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 болотами и журавл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 смутным взором колду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Где разноликие на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з века в век, из дола в д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едут ночные хоров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д заревом горящих 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 algn="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. Бл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46160" y="2014560"/>
            <a:ext cx="29149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90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Святая равноапостольная княгиня Оль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100240"/>
            <a:ext cx="3311640" cy="401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обавьте графический объект двойным щелчком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 смотрю я, смотрю я  в ту сторон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Где природу приняв, как хр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клоняются люди строго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Лесу, солнцу, дождю, цвет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клоняются ветру буйном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Да речным, голубым глаз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Да всесильному морю бурном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Да сверкающим небес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 algn="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. Ляп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342108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90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Святая равноапостольная княгиня Оль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2077920"/>
            <a:ext cx="4200480" cy="476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903 году Ольга стала женой  киевского князя Игор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946 году Игорь был убит древлян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954 году Ольга приня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вятое Кр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904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Святая равноапостольная княгиня Оль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06480" y="1979640"/>
            <a:ext cx="2332080" cy="4883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« И управляла княгиня Ольга не как женщина, но как сильный и разумный муж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