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030-A420-4596-8E87-9F4B6EEC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954-8AA8-4D66-AE88-8BB0304A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7E8-0540-4942-AF44-AE1E9F5F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04A-CB4C-464A-9FBD-339B8560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7088-AF6A-4B48-9FFC-A7B15F4E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D0BE-C950-4F4B-86AE-FAF320BD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18C1-FC25-4DA4-9D8B-F8049ABB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C157-B5AA-42F7-9FDD-16E2BB46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C400-DF17-4F86-9083-AADD7DFF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FBE1-0EBC-47A5-A383-2285D9F5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8982-9C2D-4D60-BB36-8F7F5DAF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EBB-8D2C-4818-88D3-32F8D915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08B9-B889-46FD-BA7B-CAB472C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EF97-1C0A-4CD4-B8D3-4A38FF88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7162-0A92-40E4-A98C-AC5CAF9E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CEFA-A737-404F-B20A-97A56FBF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D409-64AB-4C43-BC48-E1A4A5AB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F49-5AD0-487C-8D38-4BC0D95B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925-62DD-4E7B-B7F2-9974A209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D95-5A6E-4BA9-B301-3F8F26F9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C74-3FAE-4A5E-BD05-D0990CCB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F33-1506-4E13-8513-0096093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FEA-255E-4FF1-A981-3637DB23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BC7-159F-45BE-8959-202F3DB0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6188-D714-4E50-AC85-17EC62A812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7FB2-7E20-4AE0-B9EA-19C053AB52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омученица Екатерина – небесная покровительница Екатерины Вели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омученица Екатер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3480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омученица Екатер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60036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омученица Екатер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84192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омученица Екатер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030920" cy="49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ликомученица Екатер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5704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ден Святой Екатери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5784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то-Екатерининский кафедральный собор Краснодар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0" t="0" r="10337" b="12307"/>
          <a:stretch/>
        </p:blipFill>
        <p:spPr>
          <a:xfrm>
            <a:off x="2771640" y="1989000"/>
            <a:ext cx="348480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триарх Алексий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митрополит Кубанский Исидо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imir</cp:lastModifiedBy>
  <dcterms:modified xsi:type="dcterms:W3CDTF">2008-11-30T05:51:40Z</dcterms:modified>
  <cp:revision>1</cp:revision>
  <dc:subject/>
  <dc:title>PowerPoint Presentation</dc:title>
</cp:coreProperties>
</file>